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C2B3-AFB4-46CF-A2A1-61A98BD0CE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F145-B5BE-40B1-A679-D6704B0FB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B450-FB61-4B50-B043-5AFB18544E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7842-4EE3-463D-A7D1-01035C316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A4DC-8DCC-4623-8C33-B107D73DF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82E2-9258-43DB-91E2-9F3861F89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C7D2-B5BD-4D42-BA37-CE2412F41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1883-3B6B-420A-A0FE-F365F04BD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8282-75EF-4C72-94B2-446856294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D18F-AEFB-4D05-A524-56CE1B19C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8993-1DA4-4A7D-97D0-4AC73BA7A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9056-4727-4817-9E80-FA6D7F738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EB75-6EE3-4D00-8E32-45F18CA4F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3EA8-6176-4295-9B32-28F39DB20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00D2-AE5C-4939-98A4-99DCB8D8F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1C4E-F0AE-4704-A38C-EEF7FAB38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7E9D-A0C4-44E6-A177-BE47F7228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66E5-8A8D-416B-9543-DC740C458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174-64B2-4BD6-86FC-C6F0BE8D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E52-4929-4CF2-8BC3-55E3A486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B6B-41E8-4AFE-BFA7-EA5E956D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915-FABA-435C-85CD-01C67EDE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4E3-5650-4C92-8AED-BB443D81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C4D-F970-4DC4-96BA-3AB293E9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7CA-09D7-40FF-B467-EF201CC9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5C7-63C4-47B9-9591-DC71C5F1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882-F5D3-4838-B64A-A7084891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DA8-1140-41EB-8121-7DF0A1A8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64F-914E-4A9B-AAF2-E1F6938B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D58-99B2-4CE2-A646-BC6B57B7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B18B-4661-4CD4-9290-132B3985895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19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19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1600200" y="3657600"/>
            <a:ext cx="566640" cy="8175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7" descr=""/>
          <p:cNvPicPr/>
          <p:nvPr/>
        </p:nvPicPr>
        <p:blipFill>
          <a:blip r:embed="rId2"/>
          <a:stretch/>
        </p:blipFill>
        <p:spPr>
          <a:xfrm>
            <a:off x="1596960" y="5237280"/>
            <a:ext cx="5870520" cy="766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5"/>
          <p:cNvSpPr/>
          <p:nvPr/>
        </p:nvSpPr>
        <p:spPr>
          <a:xfrm>
            <a:off x="2362320" y="36576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21"/>
          <p:cNvSpPr/>
          <p:nvPr/>
        </p:nvSpPr>
        <p:spPr>
          <a:xfrm>
            <a:off x="3809880" y="4038480"/>
            <a:ext cx="838440" cy="0"/>
          </a:xfrm>
          <a:prstGeom prst="line">
            <a:avLst/>
          </a:prstGeom>
          <a:ln w="85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2"/>
          <p:cNvSpPr/>
          <p:nvPr/>
        </p:nvSpPr>
        <p:spPr>
          <a:xfrm>
            <a:off x="5105520" y="36576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 se 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ame 27"/>
          <p:cNvSpPr/>
          <p:nvPr/>
        </p:nvSpPr>
        <p:spPr>
          <a:xfrm>
            <a:off x="1371600" y="3505320"/>
            <a:ext cx="2209680" cy="1143000"/>
          </a:xfrm>
          <a:custGeom>
            <a:avLst/>
            <a:gdLst/>
            <a:ahLst/>
            <a:rect l="l" t="t" r="r" b="b"/>
            <a:pathLst>
              <a:path w="2209800" h="1143000">
                <a:moveTo>
                  <a:pt x="0" y="0"/>
                </a:moveTo>
                <a:lnTo>
                  <a:pt x="2209800" y="0"/>
                </a:lnTo>
                <a:lnTo>
                  <a:pt x="2209800" y="1143000"/>
                </a:lnTo>
                <a:lnTo>
                  <a:pt x="0" y="1143000"/>
                </a:lnTo>
                <a:lnTo>
                  <a:pt x="0" y="0"/>
                </a:lnTo>
                <a:close/>
                <a:moveTo>
                  <a:pt x="103121" y="103121"/>
                </a:moveTo>
                <a:lnTo>
                  <a:pt x="103121" y="1039879"/>
                </a:lnTo>
                <a:lnTo>
                  <a:pt x="2106679" y="1039879"/>
                </a:lnTo>
                <a:lnTo>
                  <a:pt x="2106679" y="103121"/>
                </a:lnTo>
                <a:lnTo>
                  <a:pt x="103121" y="103121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ame 28"/>
          <p:cNvSpPr/>
          <p:nvPr/>
        </p:nvSpPr>
        <p:spPr>
          <a:xfrm>
            <a:off x="4952880" y="3505320"/>
            <a:ext cx="2590920" cy="1143000"/>
          </a:xfrm>
          <a:custGeom>
            <a:avLst/>
            <a:gdLst/>
            <a:ahLst/>
            <a:rect l="l" t="t" r="r" b="b"/>
            <a:pathLst>
              <a:path w="2590800" h="1143000">
                <a:moveTo>
                  <a:pt x="0" y="0"/>
                </a:moveTo>
                <a:lnTo>
                  <a:pt x="2590800" y="0"/>
                </a:lnTo>
                <a:lnTo>
                  <a:pt x="2590800" y="1143000"/>
                </a:lnTo>
                <a:lnTo>
                  <a:pt x="0" y="1143000"/>
                </a:lnTo>
                <a:lnTo>
                  <a:pt x="0" y="0"/>
                </a:lnTo>
                <a:close/>
                <a:moveTo>
                  <a:pt x="103121" y="103121"/>
                </a:moveTo>
                <a:lnTo>
                  <a:pt x="103121" y="1039879"/>
                </a:lnTo>
                <a:lnTo>
                  <a:pt x="2487679" y="1039879"/>
                </a:lnTo>
                <a:lnTo>
                  <a:pt x="2487679" y="103121"/>
                </a:lnTo>
                <a:lnTo>
                  <a:pt x="103121" y="103121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ame 9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8956" y="148956"/>
                </a:moveTo>
                <a:lnTo>
                  <a:pt x="148956" y="6709044"/>
                </a:lnTo>
                <a:lnTo>
                  <a:pt x="8995044" y="6709044"/>
                </a:lnTo>
                <a:lnTo>
                  <a:pt x="8995044" y="148956"/>
                </a:lnTo>
                <a:lnTo>
                  <a:pt x="148956" y="148956"/>
                </a:lnTo>
                <a:close/>
              </a:path>
            </a:pathLst>
          </a:custGeom>
          <a:solidFill>
            <a:srgbClr val="c000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990720" y="685800"/>
            <a:ext cx="7162560" cy="2288520"/>
          </a:xfrm>
          <a:prstGeom prst="rect">
            <a:avLst/>
          </a:prstGeom>
          <a:solidFill>
            <a:srgbClr val="ffff00"/>
          </a:solidFill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7"/>
          <p:cNvSpPr/>
          <p:nvPr/>
        </p:nvSpPr>
        <p:spPr>
          <a:xfrm>
            <a:off x="2971800" y="1600200"/>
            <a:ext cx="472428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ponerse en cam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enoj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aleg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enferm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sentirse b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entristec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3"/>
          <a:stretch/>
        </p:blipFill>
        <p:spPr>
          <a:xfrm>
            <a:off x="1752480" y="2819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"/>
          <p:cNvPicPr/>
          <p:nvPr/>
        </p:nvPicPr>
        <p:blipFill>
          <a:blip r:embed="rId5"/>
          <a:stretch/>
        </p:blipFill>
        <p:spPr>
          <a:xfrm>
            <a:off x="1752480" y="22860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4-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6-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onen en camino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ale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sentimos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190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lowchart: Extract 59"/>
          <p:cNvSpPr/>
          <p:nvPr/>
        </p:nvSpPr>
        <p:spPr>
          <a:xfrm>
            <a:off x="7010280" y="129528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8"/>
          <a:stretch/>
        </p:blipFill>
        <p:spPr>
          <a:xfrm>
            <a:off x="1752480" y="1676520"/>
            <a:ext cx="457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30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5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7"/>
          <p:cNvSpPr/>
          <p:nvPr/>
        </p:nvSpPr>
        <p:spPr>
          <a:xfrm>
            <a:off x="2895480" y="1600200"/>
            <a:ext cx="464832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ponerse en cam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enoj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aleg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enferm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sentirse b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entristec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3"/>
          <a:stretch/>
        </p:blipFill>
        <p:spPr>
          <a:xfrm>
            <a:off x="1752480" y="2819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5"/>
          <a:stretch/>
        </p:blipFill>
        <p:spPr>
          <a:xfrm>
            <a:off x="1752480" y="22860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3-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5-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oj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enfe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trist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11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lowchart: Extract 59"/>
          <p:cNvSpPr/>
          <p:nvPr/>
        </p:nvSpPr>
        <p:spPr>
          <a:xfrm>
            <a:off x="7010280" y="129528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3" descr=""/>
          <p:cNvPicPr/>
          <p:nvPr/>
        </p:nvPicPr>
        <p:blipFill>
          <a:blip r:embed="rId8"/>
          <a:stretch/>
        </p:blipFill>
        <p:spPr>
          <a:xfrm>
            <a:off x="1752480" y="1676520"/>
            <a:ext cx="457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6" dur="30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7"/>
          <p:cNvSpPr/>
          <p:nvPr/>
        </p:nvSpPr>
        <p:spPr>
          <a:xfrm>
            <a:off x="2895480" y="1600200"/>
            <a:ext cx="472464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echarse a trabaj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divir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preguna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ves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cepill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qued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"/>
          <p:cNvPicPr/>
          <p:nvPr/>
        </p:nvPicPr>
        <p:blipFill>
          <a:blip r:embed="rId5"/>
          <a:stretch/>
        </p:blipFill>
        <p:spPr>
          <a:xfrm>
            <a:off x="1752480" y="22860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6-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3-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echas a trabajar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divirt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egun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32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1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2" descr=""/>
          <p:cNvPicPr/>
          <p:nvPr/>
        </p:nvPicPr>
        <p:blipFill>
          <a:blip r:embed="rId8"/>
          <a:stretch/>
        </p:blipFill>
        <p:spPr>
          <a:xfrm>
            <a:off x="1752480" y="2819520"/>
            <a:ext cx="5335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22" dur="30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2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7"/>
          <p:cNvSpPr/>
          <p:nvPr/>
        </p:nvSpPr>
        <p:spPr>
          <a:xfrm>
            <a:off x="3048120" y="1600200"/>
            <a:ext cx="44193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echarse a trabaj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divir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preguna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ves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cepill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qued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"/>
          <p:cNvPicPr/>
          <p:nvPr/>
        </p:nvPicPr>
        <p:blipFill>
          <a:blip r:embed="rId5"/>
          <a:stretch/>
        </p:blipFill>
        <p:spPr>
          <a:xfrm>
            <a:off x="1752480" y="22860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-6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5-5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4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qued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ep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v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53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"/>
          <p:cNvPicPr/>
          <p:nvPr/>
        </p:nvPicPr>
        <p:blipFill>
          <a:blip r:embed="rId8"/>
          <a:stretch/>
        </p:blipFill>
        <p:spPr>
          <a:xfrm>
            <a:off x="1752480" y="2819520"/>
            <a:ext cx="5335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8" dur="30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61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7"/>
          <p:cNvSpPr/>
          <p:nvPr/>
        </p:nvSpPr>
        <p:spPr>
          <a:xfrm>
            <a:off x="3200400" y="1600200"/>
            <a:ext cx="358128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eva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se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desper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ivir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acos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tretch/>
        </p:blipFill>
        <p:spPr>
          <a:xfrm>
            <a:off x="1752480" y="4495680"/>
            <a:ext cx="327240" cy="466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"/>
          <p:cNvPicPr/>
          <p:nvPr/>
        </p:nvPicPr>
        <p:blipFill>
          <a:blip r:embed="rId4"/>
          <a:stretch/>
        </p:blipFill>
        <p:spPr>
          <a:xfrm>
            <a:off x="1752480" y="167652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"/>
          <p:cNvPicPr/>
          <p:nvPr/>
        </p:nvPicPr>
        <p:blipFill>
          <a:blip r:embed="rId5"/>
          <a:stretch/>
        </p:blipFill>
        <p:spPr>
          <a:xfrm>
            <a:off x="1752480" y="3352680"/>
            <a:ext cx="533520" cy="466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"/>
          <p:cNvPicPr/>
          <p:nvPr/>
        </p:nvPicPr>
        <p:blipFill>
          <a:blip r:embed="rId6"/>
          <a:stretch/>
        </p:blipFill>
        <p:spPr>
          <a:xfrm>
            <a:off x="1752480" y="39625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-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5-5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1-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sentái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e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u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Rectangle 22" descr=""/>
          <p:cNvPicPr/>
          <p:nvPr/>
        </p:nvPicPr>
        <p:blipFill>
          <a:blip r:embed="rId7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75" name="Rectangle 23" descr=""/>
          <p:cNvPicPr/>
          <p:nvPr/>
        </p:nvPicPr>
        <p:blipFill>
          <a:blip r:embed="rId8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4" dur="30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9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3124080" y="1600200"/>
            <a:ext cx="365760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eva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se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desper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ivir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acos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/>
          <p:cNvPicPr/>
          <p:nvPr/>
        </p:nvPicPr>
        <p:blipFill>
          <a:blip r:embed="rId3"/>
          <a:stretch/>
        </p:blipFill>
        <p:spPr>
          <a:xfrm>
            <a:off x="1752480" y="4495680"/>
            <a:ext cx="327240" cy="466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"/>
          <p:cNvPicPr/>
          <p:nvPr/>
        </p:nvPicPr>
        <p:blipFill>
          <a:blip r:embed="rId4"/>
          <a:stretch/>
        </p:blipFill>
        <p:spPr>
          <a:xfrm>
            <a:off x="1752480" y="167652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"/>
          <p:cNvPicPr/>
          <p:nvPr/>
        </p:nvPicPr>
        <p:blipFill>
          <a:blip r:embed="rId5"/>
          <a:stretch/>
        </p:blipFill>
        <p:spPr>
          <a:xfrm>
            <a:off x="1752480" y="3352680"/>
            <a:ext cx="533520" cy="466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"/>
          <p:cNvPicPr/>
          <p:nvPr/>
        </p:nvPicPr>
        <p:blipFill>
          <a:blip r:embed="rId6"/>
          <a:stretch/>
        </p:blipFill>
        <p:spPr>
          <a:xfrm>
            <a:off x="1752480" y="39625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-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1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3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va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vant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desp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Rectangle 22" descr=""/>
          <p:cNvPicPr/>
          <p:nvPr/>
        </p:nvPicPr>
        <p:blipFill>
          <a:blip r:embed="rId7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96" name="Rectangle 23" descr=""/>
          <p:cNvPicPr/>
          <p:nvPr/>
        </p:nvPicPr>
        <p:blipFill>
          <a:blip r:embed="rId8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lowchart: Extract 59"/>
          <p:cNvSpPr/>
          <p:nvPr/>
        </p:nvSpPr>
        <p:spPr>
          <a:xfrm>
            <a:off x="7010280" y="1447920"/>
            <a:ext cx="1905120" cy="441936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30" dur="30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43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7"/>
          <p:cNvSpPr/>
          <p:nvPr/>
        </p:nvSpPr>
        <p:spPr>
          <a:xfrm>
            <a:off x="3352680" y="1600200"/>
            <a:ext cx="342900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aleg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pregu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enamo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enoj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orm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cepill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"/>
          <p:cNvPicPr/>
          <p:nvPr/>
        </p:nvPicPr>
        <p:blipFill>
          <a:blip r:embed="rId4"/>
          <a:stretch/>
        </p:blipFill>
        <p:spPr>
          <a:xfrm>
            <a:off x="1752480" y="335268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1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-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3-6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1-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oj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cep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due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8" descr=""/>
          <p:cNvPicPr/>
          <p:nvPr/>
        </p:nvPicPr>
        <p:blipFill>
          <a:blip r:embed="rId8"/>
          <a:stretch/>
        </p:blipFill>
        <p:spPr>
          <a:xfrm>
            <a:off x="1752480" y="2286000"/>
            <a:ext cx="317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6" dur="30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46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47"/>
          <p:cNvSpPr/>
          <p:nvPr/>
        </p:nvSpPr>
        <p:spPr>
          <a:xfrm>
            <a:off x="3276720" y="1600200"/>
            <a:ext cx="35049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aleg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pregu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enamo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enoj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orm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cepill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"/>
          <p:cNvPicPr/>
          <p:nvPr/>
        </p:nvPicPr>
        <p:blipFill>
          <a:blip r:embed="rId4"/>
          <a:stretch/>
        </p:blipFill>
        <p:spPr>
          <a:xfrm>
            <a:off x="1752480" y="335268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1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-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2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3-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amor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le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preg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337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8"/>
          <a:stretch/>
        </p:blipFill>
        <p:spPr>
          <a:xfrm>
            <a:off x="1752480" y="2209680"/>
            <a:ext cx="317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2" dur="30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50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380880" y="1447920"/>
            <a:ext cx="8382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t-Up and Pl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great activity to get students writing  and practicing verb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the activity by reviewing the verb forms that students will use in th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the subject pronoun/picture slide so that students are familiar with the pi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each activity with a single click on slide that will reveal three number combinations. The first number is the subject and the second number is the ver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then have 30 seconds (the triangle disappears to show time passing) to write the three subjects with the correct form of the ver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30 seconds have passed FIN appears on the screen and the numbers dis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dditional click shows the three subjects with the correct verb forms so that students can check their verb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219320" y="457200"/>
            <a:ext cx="6400800" cy="70344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ame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39138" y="239138"/>
                </a:moveTo>
                <a:lnTo>
                  <a:pt x="239138" y="6618862"/>
                </a:lnTo>
                <a:lnTo>
                  <a:pt x="8904862" y="6618862"/>
                </a:lnTo>
                <a:lnTo>
                  <a:pt x="8904862" y="239138"/>
                </a:lnTo>
                <a:lnTo>
                  <a:pt x="239138" y="239138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ame 5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39138" y="239138"/>
                </a:moveTo>
                <a:lnTo>
                  <a:pt x="239138" y="6618862"/>
                </a:lnTo>
                <a:lnTo>
                  <a:pt x="8904862" y="6618862"/>
                </a:lnTo>
                <a:lnTo>
                  <a:pt x="8904862" y="239138"/>
                </a:lnTo>
                <a:lnTo>
                  <a:pt x="239138" y="239138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362320" y="1371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Verbos Reflex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143000" y="1905120"/>
            <a:ext cx="335268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spertarse 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st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vantars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nerse en cami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vars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pillarse los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ostars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ta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laj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añ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amor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tristec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952880" y="1905120"/>
            <a:ext cx="274320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rm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uch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d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t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ferm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oj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pill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virt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egr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gun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219320" y="457200"/>
            <a:ext cx="6400800" cy="70344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4"/>
          <p:cNvSpPr/>
          <p:nvPr/>
        </p:nvSpPr>
        <p:spPr>
          <a:xfrm>
            <a:off x="1905120" y="18288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aso de Verbos Reflex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ame 5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39138" y="239138"/>
                </a:moveTo>
                <a:lnTo>
                  <a:pt x="239138" y="6618862"/>
                </a:lnTo>
                <a:lnTo>
                  <a:pt x="8904862" y="6618862"/>
                </a:lnTo>
                <a:lnTo>
                  <a:pt x="8904862" y="239138"/>
                </a:lnTo>
                <a:lnTo>
                  <a:pt x="239138" y="239138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838080" y="2666880"/>
            <a:ext cx="3733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Pronombres Reflex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o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ú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Él/Ella/Usted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sotros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Vosotros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llos/Ellas/Ustedes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724280" y="2666880"/>
            <a:ext cx="39625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Yo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sp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Tú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Él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v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Nosotros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os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Vosotros 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os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dá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Ustedes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uestan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219320" y="457200"/>
            <a:ext cx="6400800" cy="70344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0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4288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725400" cy="97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1752480" y="4191120"/>
            <a:ext cx="693720" cy="99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4"/>
          <a:stretch/>
        </p:blipFill>
        <p:spPr>
          <a:xfrm>
            <a:off x="6324480" y="1600200"/>
            <a:ext cx="709560" cy="1023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5"/>
          <a:stretch/>
        </p:blipFill>
        <p:spPr>
          <a:xfrm>
            <a:off x="3657600" y="1523880"/>
            <a:ext cx="676440" cy="1028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6"/>
          <a:stretch/>
        </p:blipFill>
        <p:spPr>
          <a:xfrm>
            <a:off x="4419720" y="4267080"/>
            <a:ext cx="113184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7"/>
          <a:stretch/>
        </p:blipFill>
        <p:spPr>
          <a:xfrm>
            <a:off x="6324480" y="2666880"/>
            <a:ext cx="1211400" cy="99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8"/>
          <a:stretch/>
        </p:blipFill>
        <p:spPr>
          <a:xfrm>
            <a:off x="3657600" y="2666880"/>
            <a:ext cx="1143000" cy="993960"/>
          </a:xfrm>
          <a:prstGeom prst="rect">
            <a:avLst/>
          </a:prstGeom>
          <a:ln w="0">
            <a:noFill/>
          </a:ln>
        </p:spPr>
      </p:pic>
      <p:sp>
        <p:nvSpPr>
          <p:cNvPr id="78" name="TextBox 14"/>
          <p:cNvSpPr/>
          <p:nvPr/>
        </p:nvSpPr>
        <p:spPr>
          <a:xfrm>
            <a:off x="1219320" y="1752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5"/>
          <p:cNvSpPr/>
          <p:nvPr/>
        </p:nvSpPr>
        <p:spPr>
          <a:xfrm>
            <a:off x="7010280" y="1828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4419720" y="1752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5562720" y="44197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7467480" y="27432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876920" y="28195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2514600" y="43434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1"/>
          <p:cNvSpPr/>
          <p:nvPr/>
        </p:nvSpPr>
        <p:spPr>
          <a:xfrm>
            <a:off x="1219320" y="28954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2"/>
          <p:cNvSpPr/>
          <p:nvPr/>
        </p:nvSpPr>
        <p:spPr>
          <a:xfrm>
            <a:off x="533520" y="5605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 Black"/>
              </a:rPr>
              <a:t>Los Suje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"/>
          <p:cNvPicPr/>
          <p:nvPr/>
        </p:nvPicPr>
        <p:blipFill>
          <a:blip r:embed="rId9"/>
          <a:stretch/>
        </p:blipFill>
        <p:spPr>
          <a:xfrm>
            <a:off x="1600200" y="5257800"/>
            <a:ext cx="993600" cy="117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10"/>
          <a:stretch/>
        </p:blipFill>
        <p:spPr>
          <a:xfrm>
            <a:off x="4340160" y="5257800"/>
            <a:ext cx="1279440" cy="1066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4"/>
          <p:cNvSpPr/>
          <p:nvPr/>
        </p:nvSpPr>
        <p:spPr>
          <a:xfrm>
            <a:off x="2590920" y="54100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5562720" y="5410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t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ame 2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39138" y="239138"/>
                </a:moveTo>
                <a:lnTo>
                  <a:pt x="239138" y="6618862"/>
                </a:lnTo>
                <a:lnTo>
                  <a:pt x="8904862" y="6618862"/>
                </a:lnTo>
                <a:lnTo>
                  <a:pt x="8904862" y="239138"/>
                </a:lnTo>
                <a:lnTo>
                  <a:pt x="239138" y="239138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7"/>
          <p:cNvSpPr/>
          <p:nvPr/>
        </p:nvSpPr>
        <p:spPr>
          <a:xfrm>
            <a:off x="3276720" y="1600200"/>
            <a:ext cx="35049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acos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bañ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desper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orm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duch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tangle 49" descr=""/>
          <p:cNvPicPr/>
          <p:nvPr/>
        </p:nvPicPr>
        <p:blipFill>
          <a:blip r:embed="rId1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50" descr=""/>
          <p:cNvPicPr/>
          <p:nvPr/>
        </p:nvPicPr>
        <p:blipFill>
          <a:blip r:embed="rId2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"/>
          <p:cNvPicPr/>
          <p:nvPr/>
        </p:nvPicPr>
        <p:blipFill>
          <a:blip r:embed="rId3"/>
          <a:stretch/>
        </p:blipFill>
        <p:spPr>
          <a:xfrm>
            <a:off x="1828800" y="16765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752480" y="327672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1828800" y="2209680"/>
            <a:ext cx="326880" cy="466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6"/>
          <a:stretch/>
        </p:blipFill>
        <p:spPr>
          <a:xfrm>
            <a:off x="1828800" y="2743200"/>
            <a:ext cx="318960" cy="484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7"/>
          <a:stretch/>
        </p:blipFill>
        <p:spPr>
          <a:xfrm>
            <a:off x="1752480" y="44197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-5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4-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1-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due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despertamo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b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4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owchart: Extract 59"/>
          <p:cNvSpPr/>
          <p:nvPr/>
        </p:nvSpPr>
        <p:spPr>
          <a:xfrm>
            <a:off x="7010280" y="152388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"/>
          <p:cNvPicPr/>
          <p:nvPr/>
        </p:nvPicPr>
        <p:blipFill>
          <a:blip r:embed="rId8"/>
          <a:stretch/>
        </p:blipFill>
        <p:spPr>
          <a:xfrm>
            <a:off x="1752480" y="3809880"/>
            <a:ext cx="457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6" dur="30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7"/>
          <p:cNvSpPr/>
          <p:nvPr/>
        </p:nvSpPr>
        <p:spPr>
          <a:xfrm>
            <a:off x="3276720" y="1600200"/>
            <a:ext cx="35049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acos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bañ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desper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orm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duch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0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326880" cy="466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4"/>
          <a:stretch/>
        </p:blipFill>
        <p:spPr>
          <a:xfrm>
            <a:off x="1828800" y="2743200"/>
            <a:ext cx="318960" cy="48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1752480" y="44197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-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3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5-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v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uest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u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1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8"/>
          <a:stretch/>
        </p:blipFill>
        <p:spPr>
          <a:xfrm>
            <a:off x="1752480" y="3809880"/>
            <a:ext cx="47628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2" dur="30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4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7"/>
          <p:cNvSpPr/>
          <p:nvPr/>
        </p:nvSpPr>
        <p:spPr>
          <a:xfrm>
            <a:off x="3505320" y="1600200"/>
            <a:ext cx="32763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qued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re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lav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leva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enamo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se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326880" cy="466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4"/>
          <a:stretch/>
        </p:blipFill>
        <p:spPr>
          <a:xfrm>
            <a:off x="1828800" y="3886200"/>
            <a:ext cx="318960" cy="484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5"/>
          <a:stretch/>
        </p:blipFill>
        <p:spPr>
          <a:xfrm>
            <a:off x="1752480" y="27432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-6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1-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5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ame 20"/>
          <p:cNvSpPr/>
          <p:nvPr/>
        </p:nvSpPr>
        <p:spPr>
          <a:xfrm>
            <a:off x="0" y="7632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sient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reí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v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148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lowchart: Extract 59"/>
          <p:cNvSpPr/>
          <p:nvPr/>
        </p:nvSpPr>
        <p:spPr>
          <a:xfrm>
            <a:off x="7010280" y="1447920"/>
            <a:ext cx="1905120" cy="441936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8"/>
          <a:stretch/>
        </p:blipFill>
        <p:spPr>
          <a:xfrm>
            <a:off x="1752480" y="4406760"/>
            <a:ext cx="685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8" dur="30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81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7"/>
          <p:cNvSpPr/>
          <p:nvPr/>
        </p:nvSpPr>
        <p:spPr>
          <a:xfrm>
            <a:off x="3276720" y="1600200"/>
            <a:ext cx="35049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qued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re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lav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leva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enamo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se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326880" cy="466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4"/>
          <a:stretch/>
        </p:blipFill>
        <p:spPr>
          <a:xfrm>
            <a:off x="1828800" y="3886200"/>
            <a:ext cx="318960" cy="484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5"/>
          <a:stretch/>
        </p:blipFill>
        <p:spPr>
          <a:xfrm>
            <a:off x="1752480" y="27432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4-5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2-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qued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enamoro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 la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1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8"/>
          <a:stretch/>
        </p:blipFill>
        <p:spPr>
          <a:xfrm>
            <a:off x="1752480" y="4406760"/>
            <a:ext cx="685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4" dur="30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1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21:33:14Z</dcterms:created>
  <dc:creator>Jcabral</dc:creator>
  <dc:description/>
  <dc:language>en-US</dc:language>
  <cp:lastModifiedBy>Yasmine Allen</cp:lastModifiedBy>
  <dcterms:modified xsi:type="dcterms:W3CDTF">2012-09-02T16:39:42Z</dcterms:modified>
  <cp:revision>87</cp:revision>
  <dc:subject/>
  <dc:title>Slide 1</dc:title>
</cp:coreProperties>
</file>